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DEC-09E5-4E32-9149-0D257416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62A-2096-462F-AE4F-F4CF89EA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B9A-1D37-40F8-9A51-63BED3F6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86B-4EE7-4473-AD1D-D3113D0E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76D-5265-4164-9E18-FBB1E36B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BDB-DDF1-4884-A842-934A9872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9FD8-22FA-4472-B616-2FEA52F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29B-25FC-4142-9C63-94B7C2E6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1BB-4C8F-4F69-BE93-6B4A36D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582F-7179-4613-9E46-49B1A2B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5010-4A05-4668-B292-69655E5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661-1926-4F42-80CB-3360E132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1257-278C-45DD-9F91-C7172741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800-4032-4E75-B1EB-1DDB82A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CF3-5974-4791-9586-08E6A605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48EC-370E-4917-A97D-0823F469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0A2-B151-4281-A818-90C8A013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6C47-88B5-4F1D-B256-DF320B1A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9946-3E6D-4A4D-9918-105D3451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EEB4-D40D-418F-8809-0288BFC4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9072-3BE6-4D29-88F4-3BBAAA4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A272-2E89-4901-891C-FDD5D1C8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8D0-15AA-4B31-A45C-A1BED86B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F170-FE06-4937-AF4D-A93294A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A0A3-E10E-4F00-95C9-AABDD85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4004-D07F-4F0C-95CE-3FD6BB0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41DE-897A-4EEB-8525-0631614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EE0AA-5509-4877-A5E1-B7EB907F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0A31-0A6E-4BC9-A882-0BC1134D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53AE-E2F0-4271-BCB7-93185316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7791-8AD1-4E8D-93D0-CCFD3805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B4BC-DC07-4424-858E-B35864B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68BE-E45E-42CD-86ED-C222A25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64E-C1E1-4F88-8F82-F09C821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8E09-B5E8-4A60-92DF-9C2F65A4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E017-007A-4A8E-93B8-A69BEF2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68FA-4CD8-49C0-894F-36009E26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685D-5980-4DCF-A1BD-EADCDC49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68B1-0172-4E33-82AE-6E6468D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6AFF-F200-413C-8CE0-291F420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CC9E6-C729-4879-B058-AD6BF9A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2484-00EE-4D22-88B6-E93AAA3A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C512-E98C-42ED-B00C-1DA7B087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182-2664-44F0-A279-32844BB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76C-5DAE-4125-85AF-3DC678E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74E-1F54-4708-A943-A97DD19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B00-CD79-4858-A936-6718102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3F2-CDF7-420F-8707-3425E42E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E14-E291-40C4-B7FB-8AB2B793BF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8E03-CD23-4C6F-8D32-A1277EFC4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618-A9FE-4F71-BC6F-FDA762A13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222D-2143-4710-BE35-7C373A2CA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ootmouse.com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hyperlink" Target="http://atestore.enablemart.com/products_detail.asp?id=154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bilityhub.com/" TargetMode="External"/><Relationship Id="rId3" Type="http://schemas.openxmlformats.org/officeDocument/2006/relationships/hyperlink" Target="http://www.readplease.com/" TargetMode="External"/><Relationship Id="rId4" Type="http://schemas.openxmlformats.org/officeDocument/2006/relationships/hyperlink" Target="http://www.synapseadaptive.com/aisquared/zoomtext_9/zoomtext_9_magnifier_reader.htm" TargetMode="External"/><Relationship Id="rId5" Type="http://schemas.openxmlformats.org/officeDocument/2006/relationships/hyperlink" Target="http://www.iglou.com/vrsky/" TargetMode="External"/><Relationship Id="rId6" Type="http://schemas.openxmlformats.org/officeDocument/2006/relationships/hyperlink" Target="http://www.e-speaking.com/" TargetMode="External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11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alking Devic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aille trans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ed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ete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1542960" cy="234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M Classroom Audi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4043520" cy="290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d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267080" cy="3405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ny types of mobilit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lking, dexterity,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26692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board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5324400" cy="372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t-controlled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6" name="" descr="no hands mouse control of the mouse and cursor using a fe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19520"/>
            <a:ext cx="3962520" cy="277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43480" y="2095560"/>
            <a:ext cx="3027240" cy="39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command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speak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4290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80720" y="2057400"/>
            <a:ext cx="3886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ye-driven keyboarding (Eye-g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p and Pu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Image:Sip-and-puff device.jpg"/>
          <p:cNvPicPr/>
          <p:nvPr/>
        </p:nvPicPr>
        <p:blipFill>
          <a:blip r:embed="rId2"/>
          <a:stretch/>
        </p:blipFill>
        <p:spPr>
          <a:xfrm>
            <a:off x="6324480" y="342900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EyeTech Digital Systems, control computer cursor with eye moveme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295280"/>
            <a:ext cx="2295720" cy="2343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&amp; Assistiv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ual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aring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ity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and Learning Disabilities: Leveling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RT Boards -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Ahe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sson / Technology Plan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roup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our on-line identities relevant to who we are off-line? Is on-line even a REAL 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Universal Desig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828800" y="17524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sign of products that helps all, including people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rrier-free”               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ample: Curb-cuts                        in sidewalk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elps people with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 benefits for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e01318"/>
                </a:solidFill>
                <a:latin typeface="Arial"/>
              </a:rPr>
              <a:t>Exampl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Text-to-speec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omputer monitor with touch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losed 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Wheel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4600" y="2437920"/>
            <a:ext cx="616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ferable to adaptiv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logy &amp; Learning Disabilit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Leveling the Field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y technologies allow effective interventions for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echnology and 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3943440" cy="296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– to – spee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mits user to “listen”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sts with reading / understand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e01318"/>
                </a:solidFill>
                <a:latin typeface="Arial"/>
              </a:rPr>
              <a:t>Read Pleas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Word Processors – e.g. MS Wo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lex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677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– to –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ows user to speak answers or information that is translated to writte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Dragon Naturally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graph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y allows ALL students to have similar quality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students can have equal access to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self-esteem and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 Level Playing Fie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828800" y="1295280"/>
            <a:ext cx="6778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ility Hub – Links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ilityhub.com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Plea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to speech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oom Tex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magnifies scre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gon Naturally Spea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peech to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-speak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voice comm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Resourc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aptive &amp; Assistive Technologi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209320" y="1371600"/>
            <a:ext cx="62485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ahoma"/>
              </a:rPr>
              <a:t>Interactive Whiteboards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3733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SMART Bo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318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318"/>
                </a:solidFill>
                <a:latin typeface="Arial"/>
              </a:rPr>
              <a:t>Similar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2551320" cy="2577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ur on-line ide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levant to who 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ff-lin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on-line even a REAL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7010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Paper due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04760" y="1447560"/>
            <a:ext cx="6778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es that allow people with physical disabilities to perform or use common tasks 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Adaptive / Assistive Technology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1" name="" descr="Image:Head-wand.jpg"/>
          <p:cNvPicPr/>
          <p:nvPr/>
        </p:nvPicPr>
        <p:blipFill>
          <a:blip r:embed="rId2"/>
          <a:stretch/>
        </p:blipFill>
        <p:spPr>
          <a:xfrm>
            <a:off x="4876920" y="37339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6778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mited visio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plete impairmen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Tahoma"/>
              </a:rPr>
              <a:t>Visual Disability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28880" cy="237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arge Screen monito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xt reade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210360" y="3276720"/>
            <a:ext cx="2446200" cy="327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Zoom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magnifies regular computer scree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581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een Readers – text to speech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reads screen text to 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b based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 Plea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2438640" cy="225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-to-text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commands (computers, phon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11T17:33:39Z</dcterms:modified>
  <cp:revision>30</cp:revision>
  <dc:subject/>
  <dc:title>Welcome to  ED3862</dc:title>
</cp:coreProperties>
</file>